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985-C18C-4107-9D3F-3B5F8E83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316-C847-4833-AF9D-071AD7F2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EBF-4B01-458E-A483-06077B4D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541-5628-4D56-B68B-8074B91F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990-9986-448B-89FF-BC95C7CA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FC5-40ED-46D1-96B0-828C93E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633-59FD-472D-AE82-0399910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DB5-1216-4D5F-B8B8-66A7C6A1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1C8-40D2-4837-8692-5F31B0E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8B5-0F3F-43D4-B273-F317C38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A12-A0CC-44FB-AD74-7A75F32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A2D-CA59-44D7-A4A7-EFFB776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C89-47FF-49D8-A0C0-9B8C3333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Transformation of Pediatric Care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diatric Design of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TRANSFOR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anna Jewell, Jamie Beyer, Jiten Chhabra, Hui C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9038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59436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00800" y="594360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28600" y="2971800"/>
            <a:ext cx="4040280" cy="303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4067280" y="1905120"/>
            <a:ext cx="40860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Ki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distractions for ki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 the waiting area (kids drawings, artwork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as active distraction and therap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il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kids: “ Magic Bracele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get the kids’ temperature, pulse and other data before they see the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elp the kids keep connected with thei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Informa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creen shows the status of wai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education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pace for parents, staff and other soci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orner for parents where they can send email, fax and provide other relat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52:45Z</dcterms:created>
  <dc:creator>HCAI3</dc:creator>
  <dc:description/>
  <dc:language>en-US</dc:language>
  <cp:lastModifiedBy>HCAI3</cp:lastModifiedBy>
  <dcterms:modified xsi:type="dcterms:W3CDTF">2007-09-04T01:45:50Z</dcterms:modified>
  <cp:revision>16</cp:revision>
  <dc:subject/>
  <dc:title>Transformation of Pediatric Care Space</dc:title>
</cp:coreProperties>
</file>